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9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14.wmf" ContentType="image/x-wmf"/>
  <Override PartName="/ppt/media/image3.gif" ContentType="image/gif"/>
  <Override PartName="/ppt/media/image11.wmf" ContentType="image/x-wmf"/>
  <Override PartName="/ppt/media/image17.jpeg" ContentType="image/jpeg"/>
  <Override PartName="/ppt/media/image10.wmf" ContentType="image/x-wmf"/>
  <Override PartName="/ppt/media/image6.jpeg" ContentType="image/jpeg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CD59-075B-4FFF-9B8D-324DC4B4C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0754-6AFB-4C3E-A96E-BCA02426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A567-F274-477A-87F0-85A35279F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F354-BCDE-4515-8DFB-B6F6A0146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0324-F854-4316-A6DA-5B948C0F6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47691-DEF5-4CC6-A7C2-F7670C0C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FCCE-41FA-41A3-A333-7EC1B317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6DBC-D6DE-40F2-A00B-91EDA42A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9782-9EC9-47A6-97A8-8A1F8304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9878-485F-4D1E-9A9A-F185EB5A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57388-DD82-47C6-AFEE-3FF632F1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692F-3475-466F-A186-529461A8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B825-1AA7-41F9-A316-DE2BCB10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DCCA-49E7-4C83-9EEB-3E3DC687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A164-312B-4F3A-A232-51AED0E8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A3C2-ED5F-4B8A-9F24-A42937EEB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FA2BE-1FCE-4B64-819F-2613BDB21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4491-AD57-4C2C-9CF4-D97A9081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D886-0FA9-4D43-A55F-90EA47BE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0270-E3D1-4BB4-BEA3-8ABE92EF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E806-09E0-4119-B3CD-49C14422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70AA-4FD9-45D8-8C87-CFE7010E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F907-624E-4B71-A0BB-5E654F75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1FC6-D8BA-46BF-B519-BC567225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F913-4006-4519-B45F-B4453AE53DA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7978-A6A7-4CBA-8360-46CE8615013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Rosa and Blanca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Vocabulary and Amazing Word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Grade Read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3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dismay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feeling of deep disappointment and fea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3429000" y="3429000"/>
            <a:ext cx="2462040" cy="296532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1066680" y="3505320"/>
            <a:ext cx="2019600" cy="187164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3"/>
          <a:stretch/>
        </p:blipFill>
        <p:spPr>
          <a:xfrm>
            <a:off x="6629400" y="3505320"/>
            <a:ext cx="16779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4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efficient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 get things done without wasting time or energ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2286000" y="3173400"/>
            <a:ext cx="480060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beam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 smile in a very happy wa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609480" y="3276720"/>
            <a:ext cx="1803600" cy="19494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6477120" y="3581280"/>
            <a:ext cx="1996920" cy="177192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3276720" y="2743200"/>
            <a:ext cx="25923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forever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ever ending; alway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048120" y="3048120"/>
            <a:ext cx="313344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ituation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n act or happening; conditio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2666880" y="2743200"/>
            <a:ext cx="35816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Vocabulary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 Black"/>
              </a:rPr>
              <a:t>tortillas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5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 Black"/>
              </a:rPr>
              <a:t>luckiest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5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 Black"/>
              </a:rPr>
              <a:t>chilies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ortillas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n, flat, round breads usually make of cornmeal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990720" y="3581280"/>
            <a:ext cx="3657600" cy="242568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5486400" y="3733920"/>
            <a:ext cx="327672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luckiest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ne who has had the best fortun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505320" y="2819520"/>
            <a:ext cx="2930400" cy="3448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hilies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Green or red pepper with a hot tast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5638680" y="3352680"/>
            <a:ext cx="2335320" cy="218628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1143000" y="3733920"/>
            <a:ext cx="1870200" cy="1743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mazing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abundant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1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assist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1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generou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1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dismay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efficient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beam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forever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3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00"/>
                </a:solidFill>
                <a:latin typeface="Arial Black"/>
              </a:rPr>
              <a:t>situation</a:t>
            </a:r>
            <a:endParaRPr b="0" lang="en-US" sz="5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abundant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ore than enough or plent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2971800" y="2819520"/>
            <a:ext cx="3024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assist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 help someone do something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3048120" y="2514600"/>
            <a:ext cx="2887560" cy="3807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92" dur="2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enerous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 share with other people; unselfish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343400" y="320040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1959120" cy="131292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1981080" y="5029200"/>
            <a:ext cx="1812960" cy="1427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19:16:43Z</dcterms:created>
  <dc:creator>dyera</dc:creator>
  <dc:description/>
  <dc:language>en-US</dc:language>
  <cp:lastModifiedBy>dyera</cp:lastModifiedBy>
  <dcterms:modified xsi:type="dcterms:W3CDTF">2007-12-03T19:34:58Z</dcterms:modified>
  <cp:revision>2</cp:revision>
  <dc:subject/>
  <dc:title>Rosa and Blanca Vocabulary and Amazing Words</dc:title>
</cp:coreProperties>
</file>